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A5BF-8907-4FE4-9BE9-A41FA8916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83DC-00F1-4CC5-AC2E-72407EBDE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059F-B8A2-47D0-895B-265EA4429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7721-D2EF-4A9D-861E-1C62CF519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F989-6C26-4418-85AE-B96AFCF9E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AE09-812F-473E-9892-9F5F5914D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2E13-4C0C-4639-957E-6F25BF3C4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7D72-C4F8-41EC-A395-CD5174E1C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6DB4-C103-4D6E-8906-5396EC50E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DDE6-039B-4718-9E9F-041B83C9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BA88-632B-43D4-892B-49A32C2C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6D18-2EF6-43E2-B3F4-15661F9C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446930-4B93-4D1A-A4CB-93126E3452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Picture 8" descr="policy australia_logo+text.jpg"/>
          <p:cNvPicPr/>
          <p:nvPr/>
        </p:nvPicPr>
        <p:blipFill>
          <a:blip r:embed="rId2"/>
          <a:stretch/>
        </p:blipFill>
        <p:spPr>
          <a:xfrm>
            <a:off x="304920" y="274680"/>
            <a:ext cx="5829120" cy="1174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-framing copyright exceptions as user righ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nne Flah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480960" y="5979960"/>
            <a:ext cx="1247760" cy="4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ompeting narrativ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Fair dealing as a response to market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Fair dealing as a carve-out of the grant of copyrigh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t a supra-national level, the first narrative has been particularly powerfu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ome signs that this might be chang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480960" y="5979960"/>
            <a:ext cx="1247760" cy="4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at’s the proble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Research and stu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New publishing paradig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What is the work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 reasonable portion of wha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an contracts override exception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Reporting new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Is use of snippets fair if publishers will grant a licence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What next?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480960" y="5979960"/>
            <a:ext cx="1247760" cy="4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Burrell &amp; Colem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Re-frame the way that exceptions are understo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Not just a cosmetic reform: both politically and psychologically importa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Reinforce the idea that the exceptions are not “exceptional”, but rather a central aspect of copyright la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Useful rhetorical device to counter the overblown claims that are made for the sanctity of IP righ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480960" y="5979960"/>
            <a:ext cx="1247760" cy="4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UK IP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Calibri"/>
              </a:rPr>
              <a:t>Copyright owners are using contracts to limit activities that have been approved by law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i="1" lang="en-AU" sz="2800" spc="-1" strike="noStrike">
                <a:solidFill>
                  <a:srgbClr val="000000"/>
                </a:solidFill>
                <a:latin typeface="Calibri"/>
              </a:rPr>
              <a:t>Benefits of copyright exceptions can be lost if the terms of contracts governing access to copyright works are permitted to override and restrict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480960" y="5979960"/>
            <a:ext cx="1247760" cy="4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anadian Supreme Court in CCH case (200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Calibri"/>
              </a:rPr>
              <a:t>The fair dealing exception is perhaps more properly understood as an integral part of the Copyright Act than simply a defence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i="1" lang="en-AU" sz="2400" spc="-1" strike="noStrike">
                <a:solidFill>
                  <a:srgbClr val="000000"/>
                </a:solidFill>
                <a:latin typeface="Calibri"/>
              </a:rPr>
              <a:t>The fair dealing exception, like other exceptions in the Act, is a users’ right. It must not be interpreted restrictively…users’ rights are not just loophol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480960" y="5979960"/>
            <a:ext cx="1247760" cy="4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Does the three-step test stand in the wa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On its face, concerned with owners’ intere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Silent as to third-party intere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Has been relied on to support a market-failure understanding of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s200A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Scope to adopt a more balanced interpretat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480960" y="5979960"/>
            <a:ext cx="1247760" cy="4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Back to CCH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Calibri"/>
              </a:rPr>
              <a:t>Although the effect of the dealing on the market of the copyright owner is an important factor, it is </a:t>
            </a:r>
            <a:r>
              <a:rPr b="1" i="1" lang="en-AU" sz="2400" spc="-1" strike="noStrike">
                <a:solidFill>
                  <a:srgbClr val="000000"/>
                </a:solidFill>
                <a:latin typeface="Calibri"/>
              </a:rPr>
              <a:t>neither the only factor nor the most important factor</a:t>
            </a:r>
            <a:r>
              <a:rPr b="0" i="1" lang="en-AU" sz="2400" spc="-1" strike="noStrike">
                <a:solidFill>
                  <a:srgbClr val="000000"/>
                </a:solidFill>
                <a:latin typeface="Calibri"/>
              </a:rPr>
              <a:t> that a court must consider in deciding if the dealing is fai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480960" y="5979960"/>
            <a:ext cx="1247760" cy="4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Do TPMs make this discussion entirely theoretical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libri"/>
              </a:rPr>
              <a:t>EU: some user rights are protect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libri"/>
              </a:rPr>
              <a:t>Canadian users are fighting DMCA-style provisions that would render exceptions of little practical benefit if work protected by TPM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libri"/>
              </a:rPr>
              <a:t>Australi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Some educational uses are protected, but “lamentable, inexcusable flaw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No protection for fair dealing. Users can be “locked out”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480960" y="5979960"/>
            <a:ext cx="1247760" cy="4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11:49:19Z</dcterms:created>
  <dc:creator>Kate Allnutt</dc:creator>
  <dc:description/>
  <dc:language>en-US</dc:language>
  <cp:lastModifiedBy>ebroad</cp:lastModifiedBy>
  <dcterms:modified xsi:type="dcterms:W3CDTF">2012-03-19T01:59:33Z</dcterms:modified>
  <cp:revision>13</cp:revision>
  <dc:subject/>
  <dc:title>Slide 1</dc:title>
</cp:coreProperties>
</file>