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0D29F-6245-4466-A982-0309624B4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38688-15BD-43B9-88B1-F009913BE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E220B-7E3F-413B-8875-589CC12B0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2C050-1FCC-4389-8CC1-62E74B653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869D7-FC67-47FE-8391-02DB33F9A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A4419-2096-4F9C-8D46-CEE13E01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372F2-7191-4EB3-902E-7A5992D4E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59F0D-44B9-4624-AF65-191C2FBAB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ABA1-3DFE-4F63-861E-589205652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DF68-FD2D-4AEF-84F8-49011C55F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6BDC-6B71-46AF-865F-5086D211B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43710-A06F-4964-A784-1C4C514A7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D9C5-12E6-420C-8E61-64C2A019F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4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24AA-65E4-4A0B-99B7-BC9E831A6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R USE AS A FLEXIBLE BALANCING TOOL FOR THE INTERNET AGE</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mela Samuelson, Berkeley Law</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tralian Digital Alliance Foru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9, 2012</a:t>
            </a:r>
            <a:endParaRPr b="0" lang="en-US" sz="3200" spc="-1" strike="noStrike">
              <a:solidFill>
                <a:srgbClr val="000000"/>
              </a:solidFill>
              <a:latin typeface="Arial"/>
            </a:endParaRPr>
          </a:p>
        </p:txBody>
      </p:sp>
      <p:pic>
        <p:nvPicPr>
          <p:cNvPr id="46" name="Picture 6" descr=""/>
          <p:cNvPicPr/>
          <p:nvPr/>
        </p:nvPicPr>
        <p:blipFill>
          <a:blip r:embed="rId1"/>
          <a:stretch/>
        </p:blipFill>
        <p:spPr>
          <a:xfrm>
            <a:off x="3962520" y="5715000"/>
            <a:ext cx="1247760" cy="43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F65D-F85A-48D3-B281-B5A90C9E2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FAIR USE CASE CLUSTERS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speech/expression us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hip-promoting us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related us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us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ve/adjudicative fair us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information promoting us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innovation promoting us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es for facilitating personal 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9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EA3A-B325-4B17-88F4-89A10927E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STRALIAN L&amp;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what fair use does in the U.S. Australia does through specific L&am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mpilation privilege for S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 satire excep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and time-shifting excep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study or researc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ing for criticism or revie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in giving legal advic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fair use more flexible (e.g., time-shift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like Australia, U.S. also has specific exceptions for educational, library uses, so fair use does not supplant need for specific L&am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9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8BD0-3163-4BAB-B433-9A5B96646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S CLUSTERE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serving six favored purpo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speech/expression (criticism, new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al (comment, scholarshi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eaching, research)</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oreseen 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us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igation/investigation us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oreseen us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ngine copying to index</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eng’g to achieve interoper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ng personal use-facilitating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0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E1C8-86CC-4303-8A13-05DE8C482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CASES FALL</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whelming majority of cases were in the free speech &amp; authorial use clust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these types of uses were fair except when D took too much or invaded core licensing marke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ew cases have involved research/scholarship/teaching or personal us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splits in the existing cas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ous cases in which FU balanced interests as to uses not foreseen by Cong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igation/investigation cases more common than expe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0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EC5B-E5F4-4F61-BDCE-A2FA1EF65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IR USE &amp; FREE SPEECH</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T has opined that © is compatible with 1</a:t>
            </a:r>
            <a:r>
              <a:rPr b="0" lang="en-US" sz="3200" spc="-1" strike="noStrike" baseline="30000">
                <a:solidFill>
                  <a:srgbClr val="000000"/>
                </a:solidFill>
                <a:latin typeface="Arial"/>
              </a:rPr>
              <a:t>st</a:t>
            </a:r>
            <a:r>
              <a:rPr b="0" lang="en-US" sz="3200" spc="-1" strike="noStrike">
                <a:solidFill>
                  <a:srgbClr val="000000"/>
                </a:solidFill>
                <a:latin typeface="Arial"/>
              </a:rPr>
              <a:t> A free speech/expression norms in part because of fair use as limit on scope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speech/expression values most evident in cases where plaintiff is trying to suppress critical commentar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rdstrom v. PARAN</a:t>
            </a:r>
            <a:r>
              <a:rPr b="0" lang="en-US" sz="2800" spc="-1" strike="noStrike">
                <a:solidFill>
                  <a:srgbClr val="000000"/>
                </a:solidFill>
                <a:latin typeface="Arial"/>
              </a:rPr>
              <a:t>: protestors used photo from ad in criticizing N for racial insensi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1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134D-98EF-478C-AF49-8CEA9015D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SPEECH USE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transformations </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mpbell v. Acuff Rose</a:t>
            </a:r>
            <a:r>
              <a:rPr b="0" lang="en-US" sz="2400" spc="-1" strike="noStrike">
                <a:solidFill>
                  <a:srgbClr val="000000"/>
                </a:solidFill>
                <a:latin typeface="Arial"/>
              </a:rPr>
              <a:t>:  rap parody version of “Pretty Woman” song was fair use as critical commentary</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ntrust v. Hougton Mifflin</a:t>
            </a:r>
            <a:r>
              <a:rPr b="0" lang="en-US" sz="2400" spc="-1" strike="noStrike">
                <a:solidFill>
                  <a:srgbClr val="000000"/>
                </a:solidFill>
                <a:latin typeface="Arial"/>
              </a:rPr>
              <a:t>:  Wind Done Gone retold Gone with the Wind story from slave’s perspective</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e uses in critical commentary </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 Era v. Carol Pub’g</a:t>
            </a:r>
            <a:r>
              <a:rPr b="0" lang="en-US" sz="2400" spc="-1" strike="noStrike">
                <a:solidFill>
                  <a:srgbClr val="000000"/>
                </a:solidFill>
                <a:latin typeface="Arial"/>
              </a:rPr>
              <a:t>:  critical biography quoted from L. Ron Hubbard’s works to prove points</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 reporting</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vored use but not if systematic appropriations, cut into core licensing market, or wrongful 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1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20A3-8CFE-4698-A784-20458900C8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E SPEECH IMPLICATION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should bear burden of proof?</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often treated as affirmative defense, but if free speech is at stake, why not put BOP on P to show actual harm or meaningful likelihood of i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fact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ssertion of © appears to be a pretext (e.g., to protect privacy, moral rights inter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 asserted to censor expression, spee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or chilling effects on speech if use enjo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public interest in access to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2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D940-B7A2-4A21-AA0D-0E04BEBC4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ORIAL FAIR USE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ases involve 2</a:t>
            </a:r>
            <a:r>
              <a:rPr b="0" lang="en-US" sz="2800" spc="-1" strike="noStrike" baseline="30000">
                <a:solidFill>
                  <a:srgbClr val="000000"/>
                </a:solidFill>
                <a:latin typeface="Arial"/>
              </a:rPr>
              <a:t>nd</a:t>
            </a:r>
            <a:r>
              <a:rPr b="0" lang="en-US" sz="2800" spc="-1" strike="noStrike">
                <a:solidFill>
                  <a:srgbClr val="000000"/>
                </a:solidFill>
                <a:latin typeface="Arial"/>
              </a:rPr>
              <a:t> author drawing from 1</a:t>
            </a:r>
            <a:r>
              <a:rPr b="0" lang="en-US" sz="2800" spc="-1" strike="noStrike" baseline="30000">
                <a:solidFill>
                  <a:srgbClr val="000000"/>
                </a:solidFill>
                <a:latin typeface="Arial"/>
              </a:rPr>
              <a:t>s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egory bleed with free speech/express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perhaps, but some authorial uses are OK even if not compelled by the 1</a:t>
            </a:r>
            <a:r>
              <a:rPr b="0" lang="en-US" sz="2000" spc="-1" strike="noStrike" baseline="30000">
                <a:solidFill>
                  <a:srgbClr val="000000"/>
                </a:solidFill>
                <a:latin typeface="Arial"/>
              </a:rPr>
              <a:t>st</a:t>
            </a:r>
            <a:r>
              <a:rPr b="0" lang="en-US" sz="2000" spc="-1" strike="noStrike">
                <a:solidFill>
                  <a:srgbClr val="000000"/>
                </a:solidFill>
                <a:latin typeface="Arial"/>
              </a:rPr>
              <a:t> A; non-critical uses grouped her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ative adapta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lanch v. Koons</a:t>
            </a:r>
            <a:r>
              <a:rPr b="0" lang="en-US" sz="2400" spc="-1" strike="noStrike">
                <a:solidFill>
                  <a:srgbClr val="000000"/>
                </a:solidFill>
                <a:latin typeface="Arial"/>
              </a:rPr>
              <a:t>:  painting riffed on fashion phot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ve uses (often itera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ing to illustrate phenomenon or prove a po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ing to set historical contex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tal uses (e.g., song captured in 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D08D-F071-41C2-BA8C-31D134D6B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UTHORIAL USE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often iterative) copy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copying to prepare new 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copying to learn techniq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n archive or portfolio of author’s own work (if assigned © to ot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work into design contes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acto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ary practices in authorial communities should be given defer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ion may weigh in favor of F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3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2714-064C-4F94-A482-A70A9C2CC9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amp; PERSONAL USES</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teaching &amp; scholarship are favored uses, even when they do not immediately yield new works of authorshi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ittle litigation in this area in the 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law is deeply split, so difficult to generaliz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amp; Wilkins (4-3 in CAFC, 4-4 US SC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PU v. Texaco (2-1 in 2</a:t>
            </a:r>
            <a:r>
              <a:rPr b="0" lang="en-US" sz="2400" spc="-1" strike="noStrike" baseline="30000">
                <a:solidFill>
                  <a:srgbClr val="000000"/>
                </a:solidFill>
                <a:latin typeface="Arial"/>
              </a:rPr>
              <a:t>nd</a:t>
            </a:r>
            <a:r>
              <a:rPr b="0" lang="en-US" sz="2400" spc="-1" strike="noStrike">
                <a:solidFill>
                  <a:srgbClr val="000000"/>
                </a:solidFill>
                <a:latin typeface="Arial"/>
              </a:rPr>
              <a:t> Ci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urprising given that deep divides on this for 50 yrs; Congress &amp; courts unable to resolv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rs’ suit vs. Ga State over course reserve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 split also as to personal u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9838-11B3-4453-9D51-E8FADD38F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EW WORDS TO BEGI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the opportunity to discuss fair use as a flexible tool for adapting © law in an era of rapid chan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alk will not suggest that Australia should get rid of any specific exceptions it already has, nor that it should not adopt new exceptions for activities (e.g., Internet caching) already identified as worthy of adop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suggest there are some benefits to having fair use to adapt to the unforeseen, unpredictable things, especially as to new technological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3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3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F53B-08E0-475A-A9D7-BFB24B869D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PHOTOCOPYING</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H &amp; Texaco argu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esearch; customa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echnical/factu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mall # of articles; small % of journ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already buy multiple copies of journals (implicitly paying fo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s mak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 would favor</a:t>
            </a:r>
            <a:endParaRPr b="0" lang="en-US" sz="2800" spc="-1" strike="noStrike">
              <a:solidFill>
                <a:srgbClr val="000000"/>
              </a:solidFill>
              <a:latin typeface="Arial"/>
            </a:endParaRPr>
          </a:p>
        </p:txBody>
      </p:sp>
      <p:sp>
        <p:nvSpPr>
          <p:cNvPr id="14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mp;W &amp; AGPU argu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ptive, non-transformative use; proliferation of cop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echnical/factu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icensing markets possi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kt failure cu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4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4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2C0C-1757-4AF1-8BFE-52C12F44D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SHIFT COPYING</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ny</a:t>
            </a:r>
            <a:r>
              <a:rPr b="0" lang="en-US" sz="2800" spc="-1" strike="noStrike">
                <a:solidFill>
                  <a:srgbClr val="000000"/>
                </a:solidFill>
                <a:latin typeface="Arial"/>
              </a:rPr>
              <a:t> majority (5-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noncommerc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hown for free on broadcast T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time-shift copies typically era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o harm to date; harm in future speculative</a:t>
            </a:r>
            <a:endParaRPr b="0" lang="en-US" sz="2800" spc="-1" strike="noStrike">
              <a:solidFill>
                <a:srgbClr val="000000"/>
              </a:solidFill>
              <a:latin typeface="Arial"/>
            </a:endParaRPr>
          </a:p>
        </p:txBody>
      </p:sp>
      <p:sp>
        <p:nvSpPr>
          <p:cNvPr id="14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ny</a:t>
            </a:r>
            <a:r>
              <a:rPr b="0" lang="en-US" sz="2800" spc="-1" strike="noStrike">
                <a:solidFill>
                  <a:srgbClr val="000000"/>
                </a:solidFill>
                <a:latin typeface="Arial"/>
              </a:rPr>
              <a:t> diss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ptive; nonproduc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expr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wor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ume ha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for licensing will develop; levy on VCRs for © ow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675F-62D5-4235-8BFD-C9FA06CE7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A v. ACCOLADE (1992)</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to study the contents of the SW to extract unprotectable interface information necessary to achieve compatibi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of © work:  cannot read SW code as read most literary work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whole work, multiple copies, but this was necessary to accomplish legitimate obje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  development of non-infringing cannot cause ©-cognizable h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o outlaw decompilation would give Sega de facto monopoly on unprotectable elements of ©’d program; would make © like a patent (w/o any disclosu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ga</a:t>
            </a:r>
            <a:r>
              <a:rPr b="0" lang="en-US" sz="2400" spc="-1" strike="noStrike">
                <a:solidFill>
                  <a:srgbClr val="000000"/>
                </a:solidFill>
                <a:latin typeface="Arial"/>
              </a:rPr>
              <a:t> &amp; </a:t>
            </a:r>
            <a:r>
              <a:rPr b="0" i="1" lang="en-US" sz="2400" spc="-1" strike="noStrike">
                <a:solidFill>
                  <a:srgbClr val="000000"/>
                </a:solidFill>
                <a:latin typeface="Arial"/>
              </a:rPr>
              <a:t>Sony</a:t>
            </a:r>
            <a:r>
              <a:rPr b="0" lang="en-US" sz="2400" spc="-1" strike="noStrike">
                <a:solidFill>
                  <a:srgbClr val="000000"/>
                </a:solidFill>
                <a:latin typeface="Arial"/>
              </a:rPr>
              <a:t> important precedents for new tech c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17BA-4BEA-4D10-AB86-A290D3D95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ORMATIVE USES</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mpbell v. Acuff Rose</a:t>
            </a:r>
            <a:r>
              <a:rPr b="0" lang="en-US" sz="2800" spc="-1" strike="noStrike">
                <a:solidFill>
                  <a:srgbClr val="000000"/>
                </a:solidFill>
                <a:latin typeface="Arial"/>
              </a:rPr>
              <a:t>:  parody likely to qualify as fair use because of transformative purpos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work is transformative if “adds something new, with a further purpose or different character, altering the first with new expression, meaning, or message”</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ypes: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ing expression (e.g., parody, UGC)</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e use (e.g., quoting to support thesi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uses (e.g., search engine thumbnails)</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wners are not entitled to control all transformative use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0B8A-9C5C-4997-A39F-EDCF7A664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S FOR FAIR USE?</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alia will have to think about this if it moves forward with fair use for its ©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n Latman studied in mid-1950’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ed consent of author (e.g., quote to revie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authors would consent to 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gain theory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xchange for ©, authors have to allow FU</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amp; customary uses lawfu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 promotes constitutional purpos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ary to promote progress of scie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but the latter have fallen out of fashion in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3CAF-B015-4DA9-9DCB-43805F7C2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FU RATIONALES</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way to address market failu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semiotic democracy, social dialogue among works, authors, and the publ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sary limit to ensure that © does not stifle the very progress it was designed to promo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sary for compatibility with free speec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sary to promote ongoing inno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eem right but incomplete to 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explain some parts of FU, but not the wh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EBF3-B124-4068-A47C-5AAAAAF19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THEORY OF FAIR USE</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constitutional purpose of © is to promote progress of science for the benefit of publi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ve rights granted to authors are primarily intended to promote public access to and use of original works of authorshi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should be free to access, interact, and reuse ©’d works unless those uses pose a meaningful likelihood of harm to authorial incentives to create works in 1</a:t>
            </a:r>
            <a:r>
              <a:rPr b="0" lang="en-US" sz="2400" spc="-1" strike="noStrike" baseline="30000">
                <a:solidFill>
                  <a:srgbClr val="000000"/>
                </a:solidFill>
                <a:latin typeface="Arial"/>
              </a:rPr>
              <a:t>st</a:t>
            </a:r>
            <a:r>
              <a:rPr b="0" lang="en-US" sz="2400" spc="-1" strike="noStrike">
                <a:solidFill>
                  <a:srgbClr val="000000"/>
                </a:solidFill>
                <a:latin typeface="Arial"/>
              </a:rPr>
              <a:t> pl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ception of fair use encompasses all flavors of fair use, not just those affecting free speech or authorial reuses of parts of older works in creating new wor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is essential to a well-functioning copyright system that serves this constitutional purp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7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CCC1-FBC9-4F22-826F-D6D5AB5BB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CLUSTER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es the vaunted flexibility of fair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 also shows that fair use is more predictable &amp; coherent than some have sa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use provides needed flexibility and adaptability in © because policymakers can’t anticipate all new uses of ©’d works, let alone craft appropriate rules to regulate those u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s in technologies frequently raise questions policymakers couldn’t anticipate (e.g., VCR time-shifting, linking, framing, thumbn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8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BF46-AD32-4658-B237-2E618C377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v. STANDARD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 &amp; cons of rules v. standards are well-kn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predictable, precise, but not adapt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flexible, adaptable, but not predictabl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xceptions &amp; limitations (L&amp;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re rule-like:  specify purposes, persons, types of works, &amp;/or context in which use may be exemp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FU) is canonical standar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tend to work best when environment is stable and effects are predictable, but standards may be useful in era of rapid 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ture of rules &amp; standards for L&amp;Es may be desirable—so don’t repeal existing L&am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ACE2-AEE2-48E7-A292-841F84041D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YOU MAKE FAIR USE MORE PREDICTABLE?</a:t>
            </a:r>
            <a:endParaRPr b="0" lang="en-US" sz="40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ggesting that Australia adopt US fair use &amp; all of its prece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alian policymakers could prepare a report giving examples of types of uses that should be fair or unfa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practices guidelines could be developed for specific creative commun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opinion letters or low cost fair use adjudication proceedings can hel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more or different factors than in US la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able and customary uses within creative communities O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 to actual or foreseeable markets, not to any potential 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5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352F-B48D-49F4-A97F-6F2E617B5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THEN &amp; NO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ditional approach to © policy in the int’l arena has been through broad grants of rights, coupled with specific exceptions for particular types of uses or us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may have been a fine approach when the world was static, predictable, or slow-to-change—but that was then and this is n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in an era of such rapid and unpredictable technological change that we need some flexibility to be built into © law—legislatures can’t keep u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has performed this function in the 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ustralia wants to promote innovation and growth in its digital economy, it should either adopt a fair use (in addition to maintaining specific exceptions) or several new exceptions to address online activ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035F-8D0E-41CC-8CEF-4CD16EE2D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L INTEREST IN FAIR USE</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rael has adopted a fair use provis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adian fair dealing provision has been construed fairly broadly in recent year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ch Parliament has endorsed the need for some fair use type of limit on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ish consultation paper asks for comments about fair us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panese © scholars are urging adopt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EC conference in April to discuss F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1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A7F6-76BF-44EE-B12C-C8E8ADA5B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ELSE TO GET FLEXIBILITY?</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wer Commission Report in UK: need for exception for creative transformative uses such as UG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graeves Report in UK:  proposes an exception to accommodate future technological advances, plus specific one for nonconsumptive rese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tem Group proposed EU © code:  numerous purpose-based specific exceptions, “or other analogous u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genholtz &amp; Senflteben:  adapt 3 step test as flexible exce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all ADA report: series of additional exceptions for online caching, web hosting, UGC &amp; platform, search engine operations (although fair use may be bet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2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D848-BAC6-4A22-BE45-9FCA8DF7AC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has been especially valuable tool in past few decades to help U.S. courts adapt © to challenges posed by new technolog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alia needs something like fair use to adapt its © law in era of rapid change to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uld not be an outlier in int’l © if it adopted fair use or similar flexible doctrinal t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digital economy more likely to grow if Australian entrepreneurs know it is possible to make a case that their new uses are fai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mericans (except USTR) would welcome the competition from Australian fair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68F0-2215-40F3-A55B-071C2D80B6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IR USE FOSTERS NEW TECH</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ny v. Universal:</a:t>
            </a:r>
            <a:r>
              <a:rPr b="0" lang="en-US" sz="2400" spc="-1" strike="noStrike">
                <a:solidFill>
                  <a:srgbClr val="000000"/>
                </a:solidFill>
                <a:latin typeface="Arial"/>
              </a:rPr>
              <a:t>  fair use to make time-shift copies of broadcast TV program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because Betamax VCR had SNIU</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aloob v. Nintendo</a:t>
            </a:r>
            <a:r>
              <a:rPr b="0" lang="en-US" sz="2400" spc="-1" strike="noStrike">
                <a:solidFill>
                  <a:srgbClr val="000000"/>
                </a:solidFill>
                <a:latin typeface="Arial"/>
              </a:rPr>
              <a:t>:  lawful to sell Game Genies because this add-on program allowed consumers to make fair uses of Nintendo ga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elly v. Arriba Soft</a:t>
            </a:r>
            <a:r>
              <a:rPr b="0" lang="en-US" sz="2400" spc="-1" strike="noStrike">
                <a:solidFill>
                  <a:srgbClr val="000000"/>
                </a:solidFill>
                <a:latin typeface="Arial"/>
              </a:rPr>
              <a:t>:  fair use for search engine to display thumbnail-sized images of photographs &amp; link to websi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ield v. Google</a:t>
            </a:r>
            <a:r>
              <a:rPr b="0" lang="en-US" sz="2400" spc="-1" strike="noStrike">
                <a:solidFill>
                  <a:srgbClr val="000000"/>
                </a:solidFill>
                <a:latin typeface="Arial"/>
              </a:rPr>
              <a:t>:  fair use to spider, cache, index open website cont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nderhye v. iParadigms</a:t>
            </a:r>
            <a:r>
              <a:rPr b="0" lang="en-US" sz="2400" spc="-1" strike="noStrike">
                <a:solidFill>
                  <a:srgbClr val="000000"/>
                </a:solidFill>
                <a:latin typeface="Arial"/>
              </a:rPr>
              <a:t>:  fair use to scan student papers for processing in plagiarism detection softwar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D9D9-55F0-4748-997E-4142DF1D7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 W/O LITIGAT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ny</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rip, mix, burn” music from CDs to hard-drives or iPods is OK as format-shifting, as 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computing storage of music, photos,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ngbox to watch TV programs remotel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 services for personal comput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generated content (UGC) on sites such as YouTub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lly &amp; Field</a:t>
            </a:r>
            <a:r>
              <a:rPr b="0" lang="en-US" sz="2800" spc="-1" strike="noStrike">
                <a:solidFill>
                  <a:srgbClr val="000000"/>
                </a:solidFill>
                <a:latin typeface="Wingdings"/>
                <a:ea typeface="Wingdings"/>
              </a:rPr>
              <a:t></a:t>
            </a:r>
            <a:r>
              <a:rPr b="0" i="1" lang="en-US" sz="2800" spc="-1" strike="noStrike">
                <a:solidFill>
                  <a:srgbClr val="000000"/>
                </a:solidFill>
                <a:latin typeface="Arial"/>
              </a:rPr>
              <a:t> </a:t>
            </a:r>
            <a:r>
              <a:rPr b="0" lang="en-US" sz="2800" spc="-1" strike="noStrike">
                <a:solidFill>
                  <a:srgbClr val="000000"/>
                </a:solidFill>
                <a:latin typeface="Arial"/>
              </a:rPr>
              <a:t>Internet Archive’s wayback machin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aloob</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many add-on programs; ClearPlay’s filtering program for “family-friendly” mov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Paradigms</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scholarly data-mining in GB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458F-32E3-462E-9906-0510E6F455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PRO-FU CONSIDERATION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s battles in very busy legislatu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ubstantive analyses of issues likely in cou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the interests of newcomers to the © scene to be taken into consideratio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ho were not at the bargaining table when deals were cut for legislative solutio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o cure market fail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ndy Gordon proposed as to </a:t>
            </a:r>
            <a:r>
              <a:rPr b="0" i="1" lang="en-US" sz="2000" spc="-1" strike="noStrike">
                <a:solidFill>
                  <a:srgbClr val="000000"/>
                </a:solidFill>
                <a:latin typeface="Arial"/>
              </a:rPr>
              <a:t>Sony v. Universal</a:t>
            </a:r>
            <a:r>
              <a:rPr b="0" lang="en-US" sz="2000" spc="-1" strike="noStrike">
                <a:solidFill>
                  <a:srgbClr val="000000"/>
                </a:solidFill>
                <a:latin typeface="Arial"/>
              </a:rPr>
              <a:t>:  costs of clearing rights to make time-shift copies of TV programs too high to form market, so use should be fai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Google’s best arguments in the </a:t>
            </a:r>
            <a:r>
              <a:rPr b="0" i="1" lang="en-US" sz="2000" spc="-1" strike="noStrike">
                <a:solidFill>
                  <a:srgbClr val="000000"/>
                </a:solidFill>
                <a:latin typeface="Arial"/>
              </a:rPr>
              <a:t>Authors Guild</a:t>
            </a:r>
            <a:r>
              <a:rPr b="0" lang="en-US" sz="2000" spc="-1" strike="noStrike">
                <a:solidFill>
                  <a:srgbClr val="000000"/>
                </a:solidFill>
                <a:latin typeface="Arial"/>
              </a:rPr>
              <a:t> case:  too costly to clear rights on book-by-book basis for purposes of indexing contents &amp; making snippets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4A44-938C-49B9-8515-41590EBF8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AIR USE FACTOR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s potential for “© trolls” to exploit gaps in la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ds greater credibility to © law, breeds more respect among the publi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exceptions make sense when © affects only a small number of players whose uses are st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 law applies to virtually every type of computer use of content, law has to make sense to those it regula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is something ordinary people can grasp better than a large number of specific exceptions that might apply to daily life of ordinary peop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0ED7-F3BE-457D-A85F-FBB9BB4CB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 FAIR US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dge-made doctrine initially, but codified in © Act of 197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use is not infringement—peri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actors including (but not limited 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of defendant’s 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of ©’d 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amp; substantiality of tak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 to actual or potential markets for the wor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d purposes:  criticism, comment, news reporting, scholarship, research, 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9, 2012</a:t>
            </a:r>
            <a:endParaRPr b="0" lang="en-US" sz="1400" spc="-1" strike="noStrike">
              <a:solidFill>
                <a:srgbClr val="000000"/>
              </a:solidFill>
              <a:latin typeface="Arial"/>
            </a:endParaRPr>
          </a:p>
        </p:txBody>
      </p:sp>
      <p:sp>
        <p:nvSpPr>
          <p:cNvPr id="8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 Forum</a:t>
            </a:r>
            <a:endParaRPr b="0" lang="en-US" sz="1400" spc="-1" strike="noStrike">
              <a:solidFill>
                <a:srgbClr val="000000"/>
              </a:solidFill>
              <a:latin typeface="Arial"/>
            </a:endParaRPr>
          </a:p>
        </p:txBody>
      </p:sp>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F441-74CF-423E-B178-C9FA21BEAF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IN ARGUMENT vs. FAIR US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claims that FU is unpredicta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by-case adjudic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fact-specific, so difficult to generaliz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igation is costly way to get to “right” outco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that some decisions are difficult to reconcil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fair use is not as unpredictable as many have suggested, as </a:t>
            </a:r>
            <a:r>
              <a:rPr b="0" i="1" lang="en-US" sz="2400" spc="-1" strike="noStrike">
                <a:solidFill>
                  <a:srgbClr val="000000"/>
                </a:solidFill>
                <a:latin typeface="Arial"/>
              </a:rPr>
              <a:t>Unbundling Fair Uses</a:t>
            </a:r>
            <a:r>
              <a:rPr b="0" lang="en-US" sz="2400" spc="-1" strike="noStrike">
                <a:solidFill>
                  <a:srgbClr val="000000"/>
                </a:solidFill>
                <a:latin typeface="Arial"/>
              </a:rPr>
              <a:t> show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study of &gt; 300 fair use opin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 uses fall into policy-relevant clust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where it is unpredictable, that’s not nec’ly a vi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wners face risk of losing so cutting edge uses may be tolerated and become viewed as fair (e.g., UG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3T23:57:02Z</dcterms:created>
  <dc:creator>Pamela</dc:creator>
  <dc:description/>
  <dc:language>en-US</dc:language>
  <cp:lastModifiedBy>ebroad</cp:lastModifiedBy>
  <dcterms:modified xsi:type="dcterms:W3CDTF">2012-03-14T04:02:04Z</dcterms:modified>
  <cp:revision>47</cp:revision>
  <dc:subject/>
  <dc:title>FAIR USE:  WHY AUSTRALIA NEEDS IT NOW</dc:title>
</cp:coreProperties>
</file>