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EAAE-3AF0-4369-83D1-5C0C6FC3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328-663B-4131-A765-1F155BDD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B2C9-4BDF-4D7D-9984-0465CB45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EFF6-6932-498E-A098-DB50CDEE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3BF0-11E1-458D-8AED-FD6DA197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C5B-EECA-4A96-802C-CFF05DA4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C0FD-8940-44F4-BD18-FAFDEFFC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9D8C-580D-443D-A76D-882BCE85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FDA-5355-4A4F-BB7D-1E1878B3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A30-4873-4B44-9E98-79F1642B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F29-9AF3-4AFE-9F82-C2717904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5B69-EF41-41BF-AE6C-EFFCBB48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122D-DBA8-466D-81D4-076043977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Optus v NRL: Broader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Arial"/>
              </a:rPr>
              <a:t>Kimberlee Weather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898989"/>
                </a:solidFill>
                <a:latin typeface="Arial"/>
              </a:rPr>
              <a:t>ADA Forum, Canberra, March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708360" y="5157720"/>
            <a:ext cx="1839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mend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280" y="980640"/>
            <a:ext cx="84250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37040" indent="-437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legislature, or Court, could overturn the judge’s finding that it is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nsumers, not Optus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who make the recordings and later communicate those record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legislature, or the court, could overturn the trial judge’s finding that ‘Chaseplay’ constituted viewing at a ‘more convenient time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legislature could cut down the home recording exception in s 111, for example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43704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quiring that copies be made on equipment owned by the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43704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aying that ‘private and domestic’ use allowed under s 111 is confined to the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legislature could introduce a rule to prevent the establishment of businesses or commercial activities based on exceptions – generally or for s 111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legislature could carve out certain live sports from the exception: so you could record TV, but not certain listed sports (eg sports on the anti-siphoning lis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ad for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ad for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ad for innovation – in the digital economy and bey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ad for Australian competitiveness more gener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22:56:33Z</dcterms:created>
  <dc:creator>Kimberlee Weatherall</dc:creator>
  <dc:description/>
  <dc:language>en-US</dc:language>
  <cp:lastModifiedBy>ebroad</cp:lastModifiedBy>
  <dcterms:modified xsi:type="dcterms:W3CDTF">2012-03-14T04:09:34Z</dcterms:modified>
  <cp:revision>34</cp:revision>
  <dc:subject/>
  <dc:title>Copyright Law  (LAWS730-838)  Sept 2011</dc:title>
</cp:coreProperties>
</file>