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2573280" cy="1438200"/>
          </a:xfrm>
          <a:prstGeom prst="rect">
            <a:avLst/>
          </a:prstGeom>
          <a:noFill/>
          <a:ln w="9360">
            <a:solidFill>
              <a:srgbClr val="000000"/>
            </a:solidFill>
            <a:miter/>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c07"/>
                </a:solidFill>
                <a:latin typeface="Meta-Normal"/>
              </a:rPr>
              <a:t>Click to move the slide</a:t>
            </a:r>
            <a:endParaRPr b="0" lang="en-US" sz="2400" spc="-1" strike="noStrike">
              <a:solidFill>
                <a:srgbClr val="1e0c07"/>
              </a:solidFill>
              <a:latin typeface="Meta-Normal"/>
            </a:endParaRPr>
          </a:p>
        </p:txBody>
      </p:sp>
      <p:sp>
        <p:nvSpPr>
          <p:cNvPr id="87" name="PlaceHolder 4"/>
          <p:cNvSpPr>
            <a:spLocks noGrp="1"/>
          </p:cNvSpPr>
          <p:nvPr>
            <p:ph type="body"/>
          </p:nvPr>
        </p:nvSpPr>
        <p:spPr>
          <a:xfrm>
            <a:off x="549000" y="2123640"/>
            <a:ext cx="5832360" cy="633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F0E2-296F-44CD-AD17-2F0BD74B4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8D2D-4CED-41D4-A09A-9D21B221E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469880" y="685800"/>
            <a:ext cx="1919520" cy="1438200"/>
          </a:xfrm>
          <a:prstGeom prst="rect">
            <a:avLst/>
          </a:prstGeom>
          <a:ln w="0">
            <a:noFill/>
          </a:ln>
        </p:spPr>
      </p:sp>
      <p:sp>
        <p:nvSpPr>
          <p:cNvPr id="104" name="PlaceHolder 2"/>
          <p:cNvSpPr>
            <a:spLocks noGrp="1"/>
          </p:cNvSpPr>
          <p:nvPr>
            <p:ph type="body"/>
          </p:nvPr>
        </p:nvSpPr>
        <p:spPr>
          <a:xfrm>
            <a:off x="549000" y="2123640"/>
            <a:ext cx="5832360" cy="633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83BB-0591-40BC-85CA-637774A3F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469880" y="685800"/>
            <a:ext cx="1919520" cy="1438200"/>
          </a:xfrm>
          <a:prstGeom prst="rect">
            <a:avLst/>
          </a:prstGeom>
          <a:ln w="0">
            <a:noFill/>
          </a:ln>
        </p:spPr>
      </p:sp>
      <p:sp>
        <p:nvSpPr>
          <p:cNvPr id="107" name="PlaceHolder 2"/>
          <p:cNvSpPr>
            <a:spLocks noGrp="1"/>
          </p:cNvSpPr>
          <p:nvPr>
            <p:ph type="body"/>
          </p:nvPr>
        </p:nvSpPr>
        <p:spPr>
          <a:xfrm>
            <a:off x="549000" y="2123640"/>
            <a:ext cx="5832360" cy="633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acing these challenges, NSLA developed a provocation paper which was released in June 2007 called </a:t>
            </a:r>
            <a:r>
              <a:rPr b="0" i="1" lang="en-AU" sz="1200" spc="-1" strike="noStrike">
                <a:solidFill>
                  <a:srgbClr val="000000"/>
                </a:solidFill>
                <a:latin typeface="Arial"/>
              </a:rPr>
              <a:t>The Big Bang: Creating the new library universe </a:t>
            </a:r>
            <a:r>
              <a:rPr b="0" lang="en-AU" sz="1200" spc="-1" strike="noStrike">
                <a:solidFill>
                  <a:srgbClr val="000000"/>
                </a:solidFill>
                <a:latin typeface="Arial"/>
              </a:rPr>
              <a:t>which was </a:t>
            </a:r>
            <a:r>
              <a:rPr b="0" lang="en-US" sz="1200" spc="-1" strike="noStrike">
                <a:solidFill>
                  <a:srgbClr val="000000"/>
                </a:solidFill>
                <a:latin typeface="Arial"/>
              </a:rPr>
              <a:t>designed to engage and inspire staff within NSLA libraries to encourage flexibility, rapid response and innovation in 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many ways the Big Bang encapsulates the social, environmental and technological challenges faced by state and public libraries at that time and is still quite relevant today.  The Big Bang identified 12 challenges to libraries and was intended to promote discussion within our organis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dentifies the challenges in the new library universe, and proposes ways for NSLA libraries to tackle those challenges.  It emphasises our commitment to digital information and therefore the issues associated with Access, user expectations, online library users, physical spaces and services, mass digitisation, social networking, publishing, staff skills and capacity, etc etc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7 key messages in the Big Bang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is our primary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is main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job will be un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web technologies and community digital content are shaping user expectations and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we have always done we will no longer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ion and risk are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services and spaces to be welcoming and easy to use.  They want to be indepen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get out of the peoples way so that they can get the information they want when they want it in the way they need i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8653-AA18-4FCD-B926-64D56549C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469880" y="685800"/>
            <a:ext cx="1919520" cy="1438200"/>
          </a:xfrm>
          <a:prstGeom prst="rect">
            <a:avLst/>
          </a:prstGeom>
          <a:ln w="0">
            <a:noFill/>
          </a:ln>
        </p:spPr>
      </p:sp>
      <p:sp>
        <p:nvSpPr>
          <p:cNvPr id="110" name="PlaceHolder 2"/>
          <p:cNvSpPr>
            <a:spLocks noGrp="1"/>
          </p:cNvSpPr>
          <p:nvPr>
            <p:ph type="body"/>
          </p:nvPr>
        </p:nvSpPr>
        <p:spPr>
          <a:xfrm>
            <a:off x="549000" y="2123640"/>
            <a:ext cx="5832360" cy="633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C562-CE6B-4313-89E2-3A9908EFB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469880" y="685800"/>
            <a:ext cx="1919520" cy="1438200"/>
          </a:xfrm>
          <a:prstGeom prst="rect">
            <a:avLst/>
          </a:prstGeom>
          <a:ln w="0">
            <a:noFill/>
          </a:ln>
        </p:spPr>
      </p:sp>
      <p:sp>
        <p:nvSpPr>
          <p:cNvPr id="113" name="PlaceHolder 2"/>
          <p:cNvSpPr>
            <a:spLocks noGrp="1"/>
          </p:cNvSpPr>
          <p:nvPr>
            <p:ph type="body"/>
          </p:nvPr>
        </p:nvSpPr>
        <p:spPr>
          <a:xfrm>
            <a:off x="549000" y="2123640"/>
            <a:ext cx="5832360" cy="633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8926-ED75-41B9-98E1-4DFDA99C5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469880" y="685800"/>
            <a:ext cx="1919520" cy="1438200"/>
          </a:xfrm>
          <a:prstGeom prst="rect">
            <a:avLst/>
          </a:prstGeom>
          <a:ln w="0">
            <a:noFill/>
          </a:ln>
        </p:spPr>
      </p:sp>
      <p:sp>
        <p:nvSpPr>
          <p:cNvPr id="116" name="PlaceHolder 2"/>
          <p:cNvSpPr>
            <a:spLocks noGrp="1"/>
          </p:cNvSpPr>
          <p:nvPr>
            <p:ph type="body"/>
          </p:nvPr>
        </p:nvSpPr>
        <p:spPr>
          <a:xfrm>
            <a:off x="549000" y="2123640"/>
            <a:ext cx="5832360" cy="633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7EF3-B5FC-4297-B037-E60A451F9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469880" y="685800"/>
            <a:ext cx="1919520" cy="1438200"/>
          </a:xfrm>
          <a:prstGeom prst="rect">
            <a:avLst/>
          </a:prstGeom>
          <a:ln w="0">
            <a:noFill/>
          </a:ln>
        </p:spPr>
      </p:sp>
      <p:sp>
        <p:nvSpPr>
          <p:cNvPr id="119" name="PlaceHolder 2"/>
          <p:cNvSpPr>
            <a:spLocks noGrp="1"/>
          </p:cNvSpPr>
          <p:nvPr>
            <p:ph type="body"/>
          </p:nvPr>
        </p:nvSpPr>
        <p:spPr>
          <a:xfrm>
            <a:off x="549000" y="2123640"/>
            <a:ext cx="5832360" cy="633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2FD07-F942-472C-ABFE-8AD5B9E07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C41D3-041B-4E24-B819-65FFDCB85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DAA40-41C2-44F9-B679-7724A795A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7C172-8BC5-435F-92C6-891ADD37E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11DB5-95DA-4361-8BC7-B1FC22A0A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5EA17-E317-4F75-84AF-2D5825562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81860-BFE9-4D74-86F4-1AAD78A8C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2225E-A38E-45AC-83FE-7041F188C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E4F2F-A886-430A-8731-018A2F10E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5A237-AB87-4EC4-A7C5-943811758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84282-02E1-4D5B-AFAA-CCA14B491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8D09F-4CCB-4B53-9426-54306B877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866C0-C2DC-4A2D-ABE6-17EB3DE1E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DA287-9CFE-4A39-A2BA-1B5F5B8B6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22399-20A1-4E08-99D3-E06BAA00A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9EB7C-C3AE-4D56-A5FB-D431263AC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DB223-E955-4694-83EC-B023AB9D5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761A1-AAB1-429D-8B7E-88DB7A5EF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718D1-C2AF-4C73-BE6C-1E8A145B2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5DC6E-BDAB-407D-9C04-641C65029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E7B1-9E54-4298-BFDE-F2DF99615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01648-2CCF-457B-BAA1-BDC4AF90C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D2EF-0F97-4457-8F27-7FBD9E93E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c07"/>
              </a:solidFill>
              <a:latin typeface="Meta-Norm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A996-5D8F-43C4-8E29-0B4A47FBB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owerpoint Title Slide"/>
          <p:cNvPicPr/>
          <p:nvPr/>
        </p:nvPicPr>
        <p:blipFill>
          <a:blip r:embed="rId2"/>
          <a:stretch/>
        </p:blipFill>
        <p:spPr>
          <a:xfrm>
            <a:off x="0" y="0"/>
            <a:ext cx="9144000" cy="6858000"/>
          </a:xfrm>
          <a:prstGeom prst="rect">
            <a:avLst/>
          </a:prstGeom>
          <a:ln w="0">
            <a:noFill/>
          </a:ln>
        </p:spPr>
      </p:pic>
      <p:pic>
        <p:nvPicPr>
          <p:cNvPr id="1" name="Picture 12" descr="Logo"/>
          <p:cNvPicPr/>
          <p:nvPr/>
        </p:nvPicPr>
        <p:blipFill>
          <a:blip r:embed="rId3"/>
          <a:stretch/>
        </p:blipFill>
        <p:spPr>
          <a:xfrm>
            <a:off x="990720" y="380880"/>
            <a:ext cx="2619360" cy="720720"/>
          </a:xfrm>
          <a:prstGeom prst="rect">
            <a:avLst/>
          </a:prstGeom>
          <a:ln w="0">
            <a:noFill/>
          </a:ln>
        </p:spPr>
      </p:pic>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03E1-D0B2-4F97-A3D2-B83DCE231A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Powerpoint Title Slide"/>
          <p:cNvPicPr/>
          <p:nvPr/>
        </p:nvPicPr>
        <p:blipFill>
          <a:blip r:embed="rId2"/>
          <a:stretch/>
        </p:blipFill>
        <p:spPr>
          <a:xfrm>
            <a:off x="0" y="0"/>
            <a:ext cx="9144000" cy="6858000"/>
          </a:xfrm>
          <a:prstGeom prst="rect">
            <a:avLst/>
          </a:prstGeom>
          <a:ln w="0">
            <a:noFill/>
          </a:ln>
        </p:spPr>
      </p:pic>
      <p:pic>
        <p:nvPicPr>
          <p:cNvPr id="42" name="Picture 11" descr="Logo"/>
          <p:cNvPicPr/>
          <p:nvPr/>
        </p:nvPicPr>
        <p:blipFill>
          <a:blip r:embed="rId3"/>
          <a:stretch/>
        </p:blipFill>
        <p:spPr>
          <a:xfrm>
            <a:off x="1600200" y="2286000"/>
            <a:ext cx="5896080" cy="1622520"/>
          </a:xfrm>
          <a:prstGeom prst="rect">
            <a:avLst/>
          </a:prstGeom>
          <a:ln w="0">
            <a:noFill/>
          </a:ln>
        </p:spPr>
      </p:pic>
      <p:pic>
        <p:nvPicPr>
          <p:cNvPr id="43" name="Picture 14" descr="statecrestblack(circle)"/>
          <p:cNvPicPr/>
          <p:nvPr/>
        </p:nvPicPr>
        <p:blipFill>
          <a:blip r:embed="rId4"/>
          <a:stretch/>
        </p:blipFill>
        <p:spPr>
          <a:xfrm>
            <a:off x="152280" y="6019920"/>
            <a:ext cx="685800" cy="685800"/>
          </a:xfrm>
          <a:prstGeom prst="rect">
            <a:avLst/>
          </a:prstGeom>
          <a:ln w="0">
            <a:noFill/>
          </a:ln>
        </p:spPr>
      </p:pic>
      <p:sp>
        <p:nvSpPr>
          <p:cNvPr id="44"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274A-4149-4504-84A4-290873725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ifla.org/en/copyright-tlib" TargetMode="External"/><Relationship Id="rId2" Type="http://schemas.openxmlformats.org/officeDocument/2006/relationships/hyperlink" Target="http://www.ifla.org/files/hq/topics/exceptions-limitations/documents/TLIB_v4.1.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422064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0c07"/>
                </a:solidFill>
                <a:latin typeface="Arial"/>
              </a:rPr>
              <a:t>The Global Agenda for Copyright Reform</a:t>
            </a:r>
            <a:br>
              <a:rPr sz="2400"/>
            </a:br>
            <a:r>
              <a:rPr b="1" lang="en-US" sz="2400" spc="-1" strike="noStrike">
                <a:solidFill>
                  <a:srgbClr val="1e0c07"/>
                </a:solidFill>
                <a:latin typeface="Arial"/>
              </a:rPr>
              <a:t>Margaret Allen – CEO and State Librarian</a:t>
            </a:r>
            <a:endParaRPr b="0" lang="en-US" sz="2400" spc="-1" strike="noStrike">
              <a:solidFill>
                <a:srgbClr val="1e0c07"/>
              </a:solidFill>
              <a:latin typeface="Meta-Normal"/>
            </a:endParaRPr>
          </a:p>
        </p:txBody>
      </p:sp>
      <p:pic>
        <p:nvPicPr>
          <p:cNvPr id="91" name="Picture 4" descr=""/>
          <p:cNvPicPr/>
          <p:nvPr/>
        </p:nvPicPr>
        <p:blipFill>
          <a:blip r:embed="rId1"/>
          <a:stretch/>
        </p:blipFill>
        <p:spPr>
          <a:xfrm>
            <a:off x="1258920" y="5950080"/>
            <a:ext cx="1839960" cy="64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400" spc="-1" strike="noStrike">
              <a:solidFill>
                <a:srgbClr val="1e0c07"/>
              </a:solidFill>
              <a:latin typeface="Meta-Normal"/>
            </a:endParaRPr>
          </a:p>
        </p:txBody>
      </p:sp>
      <p:sp>
        <p:nvSpPr>
          <p:cNvPr id="93" name="PlaceHolder 2"/>
          <p:cNvSpPr>
            <a:spLocks noGrp="1"/>
          </p:cNvSpPr>
          <p:nvPr>
            <p:ph/>
          </p:nvPr>
        </p:nvSpPr>
        <p:spPr>
          <a:xfrm>
            <a:off x="395280" y="1844280"/>
            <a:ext cx="8229600" cy="424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LA Draft Treaty on Limitations and Exceptions for Libraries (TLI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mandatory limitations and excep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dditional protec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ly applicab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400" spc="-1" strike="noStrike">
              <a:solidFill>
                <a:srgbClr val="1e0c07"/>
              </a:solidFill>
              <a:latin typeface="Meta-Normal"/>
            </a:endParaRPr>
          </a:p>
        </p:txBody>
      </p:sp>
      <p:sp>
        <p:nvSpPr>
          <p:cNvPr id="9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sed mandatory limitations</a:t>
            </a:r>
            <a:endParaRPr b="0" lang="en-US" sz="36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parallel importa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Library Lending</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Reproduction and Supply of Copies by Libraries and Archiv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Preservation of Library and Archival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400" spc="-1" strike="noStrike">
              <a:solidFill>
                <a:srgbClr val="1e0c07"/>
              </a:solidFill>
              <a:latin typeface="Meta-Normal"/>
            </a:endParaRPr>
          </a:p>
        </p:txBody>
      </p:sp>
      <p:sp>
        <p:nvSpPr>
          <p:cNvPr id="9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sed mandatory limitations (cont)</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Use of Works and Material Protected by Related Rights for the Benefit of Persons with Disabil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Access Retracted and Withdrawn Wor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Use Orphan Works and Materials Protected by Related Righ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o Cross Border U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400" spc="-1" strike="noStrike">
              <a:solidFill>
                <a:srgbClr val="1e0c07"/>
              </a:solidFill>
              <a:latin typeface="Meta-Normal"/>
            </a:endParaRPr>
          </a:p>
        </p:txBody>
      </p:sp>
      <p:sp>
        <p:nvSpPr>
          <p:cNvPr id="99" name="PlaceHolder 2"/>
          <p:cNvSpPr>
            <a:spLocks noGrp="1"/>
          </p:cNvSpPr>
          <p:nvPr>
            <p:ph/>
          </p:nvPr>
        </p:nvSpPr>
        <p:spPr>
          <a:xfrm>
            <a:off x="468360" y="1557000"/>
            <a:ext cx="8229600" cy="4784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Protections include:</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 to Respect Exceptions to Copyright and Related Ri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 Concerning Technological Protection Meas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 on Liability for Libraries and Arch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Limitations and Exceptions Not Mandated by the Treaty (but not contrary to the Trea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sions on Implementation and Enforcement of Limitations and Exce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400" spc="-1" strike="noStrike">
              <a:solidFill>
                <a:srgbClr val="1e0c07"/>
              </a:solidFill>
              <a:latin typeface="Meta-Normal"/>
            </a:endParaRPr>
          </a:p>
        </p:txBody>
      </p:sp>
      <p:sp>
        <p:nvSpPr>
          <p:cNvPr id="101" name="PlaceHolder 2"/>
          <p:cNvSpPr>
            <a:spLocks noGrp="1"/>
          </p:cNvSpPr>
          <p:nvPr>
            <p:ph/>
          </p:nvPr>
        </p:nvSpPr>
        <p:spPr>
          <a:xfrm>
            <a:off x="468360" y="1557000"/>
            <a:ext cx="8229600" cy="4784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inform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www.ifla.org/en/copyright-tlib</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Trea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ifla.org/files/hq/topics/exceptions-limitations/documents/TLIB_v4.1.pd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05:09:43Z</dcterms:created>
  <dc:creator>Alison Sutherland</dc:creator>
  <dc:description/>
  <dc:language>en-US</dc:language>
  <cp:lastModifiedBy>ebroad</cp:lastModifiedBy>
  <dcterms:modified xsi:type="dcterms:W3CDTF">2012-03-19T01:24:26Z</dcterms:modified>
  <cp:revision>28</cp:revision>
  <dc:subject/>
  <dc:title>Catchy  Title</dc:title>
</cp:coreProperties>
</file>