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15B-BFC8-430F-8D30-DA333BEC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62D-7BD1-4BDC-BD9E-D0C28F6A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352-A6EB-4970-9346-9CE759F4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F01-2567-492F-9F5B-EF34358F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BFE-0A14-43D2-AB99-711BBF89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125-7605-44D9-81BE-9DCB76F0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061-213A-415D-9B35-9892534F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A45-F5CE-434F-A9F7-3259F988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CE66-B9D8-4C2F-910C-36A577EA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9EE-F734-4552-8B39-7D447FDE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7DE-9E84-4247-BF2A-37941298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917-01A7-4006-97B5-7C7BC6D0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56C1-7462-45CF-B3CD-E52231743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P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Arial"/>
              </a:rPr>
              <a:t>Kimberlee Weath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98989"/>
                </a:solidFill>
                <a:latin typeface="Arial"/>
              </a:rPr>
              <a:t>ADA Forum, Canberra, March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780000" y="5157720"/>
            <a:ext cx="18396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ed comprehensive regional Free Trade Agreement, which will include chapters dealing with a full range of trade iss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runei Darussalam, Chile, New Zealand, Singapore, Australia, Peru, the United States, Vietnam and Malaysia - with possible addition of Canada, Japan,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1th negotiating round just finishing (Melbourne). Next formal round expected May (Dall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Calibri"/>
              </a:rPr>
              <a:t>Copyright intermediaries and e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Calibri"/>
              </a:rPr>
              <a:t>Temporary 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Calibri"/>
              </a:rPr>
              <a:t>Parallel im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Calibri"/>
              </a:rPr>
              <a:t>Copyright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Calibri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Calibri"/>
              </a:rPr>
              <a:t>Statutory da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Calibri"/>
              </a:rPr>
              <a:t>Crimin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Calibri"/>
              </a:rPr>
              <a:t>Customs and border e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Calibri"/>
              </a:rPr>
              <a:t>Court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Calibri"/>
              </a:rPr>
              <a:t>Anti-circumvention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Calibri"/>
              </a:rPr>
              <a:t>Bad IP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Calibri"/>
              </a:rPr>
              <a:t>Strict/stronger IP provisions are counterproductive to the aims of the Trans-Pacific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Calibri"/>
              </a:rPr>
              <a:t>A strong, unbalanced IP chapter negotiated in secret without proper public input is going to bring IP further into disrep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Calibri"/>
              </a:rPr>
              <a:t>Constraint on policymaking; failing to leave flexibility to take account of current developments in domestic arenas and in W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agen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g PIJIP, CCIA, Max Planck work on excep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s - eg for visually impa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tionate reme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Fair and equitable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Protection for priv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Procedures and rules must not create barriers to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Advisory groups on IP enforcement must be fairly balanced in terms of the points of view repres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Requirement for safeguards on internet enforcement policies to avoid undue threats to free expression, business innovation and free trade,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online enforcement be narrowly targeted to cover activity clearly prohibited under existing laws, provide strong due process and be focused on crimin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prohibition tampering with the technical architecture of the Internet through manipulation of the Domain Na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enforcement involving internet intermediaries be transparent, and designed to prevent overly broad private rights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22:56:33Z</dcterms:created>
  <dc:creator>Kimberlee Weatherall</dc:creator>
  <dc:description/>
  <dc:language>en-US</dc:language>
  <cp:lastModifiedBy>ebroad</cp:lastModifiedBy>
  <dcterms:modified xsi:type="dcterms:W3CDTF">2012-03-14T04:09:49Z</dcterms:modified>
  <cp:revision>36</cp:revision>
  <dc:subject/>
  <dc:title>Copyright Law  (LAWS730-838)  Sept 2011</dc:title>
</cp:coreProperties>
</file>